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31B-77DB-4534-9037-DC50F5EF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9EC-EB7B-48DF-AE53-9FE6F3BD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927-C520-4C99-92D5-8DB3FF47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BE9-3C4A-46CF-9387-4A21BB3D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71FB-0641-4F13-8A87-E03DC536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89B-A8BB-4B2A-BCC1-1793BE48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B025-E3A8-4E25-9783-BDB46404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9442-D547-4D8B-9EB9-C1C87CD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63CB-268A-4E9F-B230-9E89F28E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CFCD-03EB-48F3-BE48-3D403C7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5687-24B5-4E27-BFA3-ADB008D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E34-54F9-4DAC-8216-33713CF8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E8ED-55E0-459D-93ED-0FD94073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8084-5CF4-494F-9EAE-ACD72A3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C20C-93EB-4BE8-95B9-A0B0DFB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CE2B-2289-4A67-8437-553155E4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4B70-86DE-48C7-87E4-2A1A9D6E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48B-A7EA-446F-BAC5-384A3F8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A61-7153-4231-9600-5F63C488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49F-7F4C-4273-9621-36153E96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BCE-233D-46DD-97A7-CE6D3E4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48F-3957-44C6-8954-B24A3A6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EE2-70A0-4970-ACA0-8F6D3FA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3E0-E92C-4BE5-B21F-6CEEE60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EF2-BD94-4855-B3CD-8865F3B48A1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EF8-E518-4294-B687-9C4A404BAD4F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300" spc="-1" strike="noStrike">
                <a:solidFill>
                  <a:srgbClr val="333399"/>
                </a:solidFill>
                <a:latin typeface="Tahoma"/>
              </a:rPr>
              <a:t>Effet d’externalisation d’un signal audio reçu au casque</a:t>
            </a:r>
            <a:endParaRPr b="0" lang="en-US" sz="4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4190760"/>
            <a:ext cx="71625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000" spc="-1" strike="noStrike">
                <a:solidFill>
                  <a:srgbClr val="000000"/>
                </a:solidFill>
                <a:latin typeface="Tahoma"/>
              </a:rPr>
              <a:t>Ingénierie intégrée du son et de l’imag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Vue d’ensemble pour l’implemen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filtres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315200" cy="398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36680" y="3733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ga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Implémentation sur DSP5630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31080" y="20908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Détails lors de l’exposé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83600" y="6172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Impact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8880" y="6172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Impac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rg_memoire2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867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Grâce à un petit logiciel de communication série, on peut choisir d’effectuer le traitement du signal ou n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eule une écoute au casque permet de juger l’efficacité du trai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ien que l’écoute soit fort subjective, on constate certains effets (augmentation des basses fréquences et diminution des hautes fréquenc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 signal audio semble être exteriorisé même si sa localisation pose problè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filtredirmes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991120" cy="3155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50480" y="224316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dir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036080" y="2243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indir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filtreindir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4375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Tahoma"/>
              </a:rPr>
              <a:t>Aperçu des améliorations envisagé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Améliorer l’implémentation des cour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Tenir compte de la phase des signa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Implémenter 1ère, 2ème,… réflex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Effets du visage (courbe, rotation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Plan de l’énonc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Introduction – description du problè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s étapes de conception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Mesures en chambre sour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Mise en équation des filt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Implémentation sur DSP563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Résult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perçu des améliorations envisag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Introduction – description du problè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s signaux audio ne sont généralement pas destinés à une écoute au cas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 casque supprime toute information spatiale des signaux sans traitement approprié de ceux-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a suppression de cette information spatiale crée une sensation « désagréable », non naturelle à l’éco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Objectif du trav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17440"/>
            <a:ext cx="78883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Effectuer un traitement numérique du signal audio qui permettra de d’extérioriser le signal audio lors de son écoute au cas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h_diagram_2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286000" cy="1874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525780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dh_diagram_1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2860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Les étapes de concep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essai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267440" cy="315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14560" y="2243160"/>
            <a:ext cx="62812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2 types de traitement pour chaque orei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sons dir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sons indir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Mesures en chambre sour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testdirect60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991480" cy="315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64720" y="224316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ons directs – rayons incidents 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Mesures en chambre sour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847080" y="224316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ons indirects – rayons incidents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estindirect120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59911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Mise en équation des filt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reille direc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de Chamberl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reille indirec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Dél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tté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Fonctions de transfert des filt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590920"/>
                <a:ext cx="39621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91120" y="5334120"/>
                <a:ext cx="4114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038480" y="3886200"/>
                <a:ext cx="4191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00" y="5410080"/>
            <a:ext cx="40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de Cham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920" y="2743200"/>
            <a:ext cx="36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7:55:57Z</dcterms:created>
  <dc:creator>Lahaye Eric</dc:creator>
  <dc:description/>
  <dc:language>en-US</dc:language>
  <cp:lastModifiedBy>Lahaye Eric</cp:lastModifiedBy>
  <dcterms:modified xsi:type="dcterms:W3CDTF">2003-06-18T14:47:40Z</dcterms:modified>
  <cp:revision>22</cp:revision>
  <dc:subject/>
  <dc:title>Ingénierie intégrée du son et de l’image</dc:title>
</cp:coreProperties>
</file>